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A95-33DF-4F61-9692-06D900F9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70B-B811-43A6-8BDF-05F67C2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94B-1EA3-42BB-BF32-ADEB0AD4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879-7F83-465F-B397-128AA126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55C-9034-4091-8A9E-E0F5D97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3FB-04D5-4AAE-8CF6-C55B95A4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8AB-14DB-4173-9EF4-F6152A18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1AA-A89E-40F6-B3AF-F428160F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507-E78D-4A13-8140-76A69EB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2E2-E6CF-44BE-8C94-2F459C5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C69-F264-4F81-8096-F13FD36B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C9F-A749-4F53-BF56-02E0DE5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4984-6912-4EBC-BEC0-0FD4D56A631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Marina</cp:lastModifiedBy>
  <cp:lastPrinted>2012-11-08T15:14:32Z</cp:lastPrinted>
  <dcterms:modified xsi:type="dcterms:W3CDTF">2013-04-12T10:15:33Z</dcterms:modified>
  <cp:revision>21</cp:revision>
  <dc:subject/>
  <dc:title>Diapositiva 1</dc:title>
</cp:coreProperties>
</file>